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641-D22E-4372-BF59-877AD209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B9D-A17E-4976-87FF-A9B6E37A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443-4C27-4F8C-91F8-2099BDA0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4F97-DD0B-4FED-AC0C-495BD388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2EC-2D6A-4472-965C-7C828E80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98A-76A4-4AF4-A052-460C36E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6EA-F9B4-4D91-8E64-CA9D4DE5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DA5-4634-4D59-B038-ABFB44FC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6A3-8906-4B41-8A95-DFAEB2A9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BD6-0DF6-4928-B61F-7C93803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D14-50DF-48CE-9C2D-ACF1B495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9D8-AD99-45F1-ACC2-804CCF37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0728-1BE2-4D20-9A18-B4144FE664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henxiaonan.com/links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cn.netor.com/m/photos/adindex.asp?page=2&amp;boardid=8800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mdaily.com.cn/0_ds/1999/19990303/GB/239%5EDS512.htm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mdaily.com.cn/0_ds/1999/19990303/GB/239%5EDS512.htm" TargetMode="External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076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名人谈生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57360"/>
            <a:ext cx="978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生当作人杰，死亦为鬼雄                 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生如夏花之绚烂，死如秋叶之静美      泰戈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62440"/>
            <a:ext cx="1069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生命是可爱的，但寒冷的寂寞的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却不如轰轰烈烈的死。                       巴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人只有献身社会，才能找出那短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华文行楷"/>
              </a:rPr>
              <a:t>而有风险的生命的意义。                爱因斯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8360" y="692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思考：为什么作者用了“像”字，而不使用“是”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276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是什么”是下定义；“像什么”是文学性的表述，具有形象性、审美性和隐喻性的特点。 表现作者自谦，写自己的感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8000" y="11592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分析“一江春水”部分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07920"/>
            <a:ext cx="83534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默读课文并思考：“一江春水”经历了哪些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生命过程的体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？（可用文中的关键语句回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. 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江春水”的经历暗示了怎样的人生历程、人生态度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57400" y="990720"/>
            <a:ext cx="5632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巉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平沙、桃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暴风雨、闪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时候——晚霞、新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048120"/>
            <a:ext cx="175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喻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境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6002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遭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523880" y="1294560"/>
            <a:ext cx="381240" cy="129564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4800600"/>
            <a:ext cx="19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坎坷、挫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厄运、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3341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95288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666880" y="152280"/>
            <a:ext cx="31244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江春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95280" y="3048120"/>
            <a:ext cx="381240" cy="1295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8954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巉岩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坎坷、挫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沙、桃花——平顺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暴风雨、闪电——突如其来的厄运、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晚霞、新月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厄运、不幸后的喜悦或成功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Times New Roman"/>
              </a:rPr>
              <a:t>　　　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Times New Roman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5029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勇敢、坚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5715000"/>
            <a:ext cx="129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悦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5942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继续向前，永不停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49528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5943600"/>
            <a:ext cx="75960" cy="609480"/>
          </a:xfrm>
          <a:custGeom>
            <a:avLst/>
            <a:gdLst>
              <a:gd name="textAreaLeft" fmla="*/ 0 w 75960"/>
              <a:gd name="textAreaRight" fmla="*/ 2736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5335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春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523880"/>
            <a:ext cx="1523880" cy="70344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聚集力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220968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213372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41972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495680"/>
            <a:ext cx="91440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1523880"/>
            <a:ext cx="2286000" cy="13129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快乐勇敢地流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295280"/>
            <a:ext cx="1828800" cy="131292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愤怒地奔腾和怒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505320"/>
            <a:ext cx="1904760" cy="70344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心平气和地一泻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505320"/>
            <a:ext cx="2971800" cy="703440"/>
          </a:xfrm>
          <a:prstGeom prst="rect">
            <a:avLst/>
          </a:prstGeom>
          <a:noFill/>
          <a:ln w="381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一声不响地流入、消融、归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速读“一棵小树”部分，思考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4130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作者按什么顺序写了“一棵树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133720"/>
            <a:ext cx="580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生长顺序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7242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四季的不同状态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2767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树的一生中有怎样的经历？暗示了怎样的人生历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62320" y="1752480"/>
            <a:ext cx="36576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勇敢快乐破壳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2666880"/>
            <a:ext cx="365760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开出满树的桃花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657600"/>
            <a:ext cx="36576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伸展出如盖的浓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4648320"/>
            <a:ext cx="36576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番庄严灿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5638680"/>
            <a:ext cx="365760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黄叶干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卷落吹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1981080"/>
            <a:ext cx="228600" cy="4038840"/>
          </a:xfrm>
          <a:custGeom>
            <a:avLst/>
            <a:gdLst>
              <a:gd name="textAreaLeft" fmla="*/ 0 w 228600"/>
              <a:gd name="textAreaRight" fmla="*/ 82440 w 2286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666880"/>
            <a:ext cx="121896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天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365760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64832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秋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5638680"/>
            <a:ext cx="121896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冬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75248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4920"/>
            <a:ext cx="281952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树经历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1989000"/>
            <a:ext cx="244800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命是从渺小到强大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终消亡。生命始终是向前发展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是任何力量都不可阻挡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304920"/>
            <a:ext cx="320040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成长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04920"/>
            <a:ext cx="259092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得到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516720" y="1916280"/>
            <a:ext cx="216000" cy="4190760"/>
          </a:xfrm>
          <a:custGeom>
            <a:avLst/>
            <a:gdLst>
              <a:gd name="textAreaLeft" fmla="*/ 0 w 216000"/>
              <a:gd name="textAreaRight" fmla="*/ 78120 w 216000"/>
              <a:gd name="textAreaTop" fmla="*/ 109080 h 4190760"/>
              <a:gd name="textAreaBottom" fmla="*/ 408168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228600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在人生的各个阶段都要努力拼搏、奋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0"/>
            <a:ext cx="899172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838080"/>
            <a:ext cx="7620120" cy="12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295280"/>
            <a:ext cx="3733920" cy="160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1828800"/>
            <a:ext cx="221004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75248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666880"/>
            <a:ext cx="121896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天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65760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648320"/>
            <a:ext cx="12189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秋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5638680"/>
            <a:ext cx="121896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冬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1752480"/>
            <a:ext cx="396216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幼年时期  茁壮成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666880"/>
            <a:ext cx="3962160" cy="581400"/>
          </a:xfrm>
          <a:prstGeom prst="rect">
            <a:avLst/>
          </a:prstGeom>
          <a:gradFill rotWithShape="0">
            <a:gsLst>
              <a:gs pos="0">
                <a:srgbClr val="0000cc">
                  <a:alpha val="52156"/>
                </a:srgbClr>
              </a:gs>
              <a:gs pos="50000">
                <a:srgbClr val="ffffff"/>
              </a:gs>
              <a:gs pos="100000">
                <a:srgbClr val="0000cc">
                  <a:alpha val="5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年时期  充满活力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645000"/>
            <a:ext cx="429768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009999"/>
              </a:gs>
              <a:gs pos="100000">
                <a:srgbClr val="bbe0e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年时期 为事业拼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4653000"/>
            <a:ext cx="4248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年时期 是家庭支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5638680"/>
            <a:ext cx="3886200" cy="58140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50000">
                <a:srgbClr val="e7e5b7"/>
              </a:gs>
              <a:gs pos="100000">
                <a:srgbClr val="33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老年时期 安享晚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8600"/>
            <a:ext cx="25146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树的四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228600"/>
            <a:ext cx="312408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人生四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28600"/>
            <a:ext cx="259092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得到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 rot="5400000">
            <a:off x="6804000" y="169992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讨论深化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6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将生命比作“一江春水”和“一棵小树”并充分展开，说说两个比喻各有什么侧重？说说这样写的用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27664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一江春水”侧重阐明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命的力量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，“一棵小树”侧重揭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命的价值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。两个比喻的内涵相互补充，形象又完整地阐明了生命的过程和意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000" y="11592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最能表达课文主题的思想的是哪一句或哪几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765000"/>
            <a:ext cx="8424720" cy="106884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生命中不是永远快乐，也不是永远痛苦，快乐和痛苦是相生相成的。在快乐中我们感谢生命，在痛苦中我们也要感谢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2492280"/>
            <a:ext cx="849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从课文中领悟到生命的本质是什么？生命的规律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357336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生命的本质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—蓬勃成长，奋勇前进，任何力量也无法阻碍它压制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4797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生命的规律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—始而渺小、微弱，继而强健、壮大，终而归于消亡，其间幸福与苦难、顺利与曲折相伴相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10_cKJCWjkHGWvu" descr=""/>
          <p:cNvPicPr/>
          <p:nvPr/>
        </p:nvPicPr>
        <p:blipFill>
          <a:blip r:embed="rId1"/>
          <a:srcRect l="7529" t="5906" r="6644" b="2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94920" y="549000"/>
            <a:ext cx="8280360" cy="59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纵观全文，作者意在表达一种什么样的人生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本文以“一江春水”和“一棵小树”为喻，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揭示生命的生长、壮大和衰老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普遍规律以及生命中的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苦痛与幸福相生相伴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一般法则，同时表达了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</a:rPr>
              <a:t>生命不止奋斗不息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意志和</a:t>
            </a:r>
            <a:r>
              <a:rPr b="1" lang="zh-CN" sz="4000" spc="-1" strike="noStrike">
                <a:solidFill>
                  <a:srgbClr val="ff3300"/>
                </a:solidFill>
                <a:latin typeface="华文新魏"/>
              </a:rPr>
              <a:t>豁达乐观</a:t>
            </a:r>
            <a:r>
              <a:rPr b="1" lang="zh-CN" sz="4000" spc="-1" strike="noStrike">
                <a:solidFill>
                  <a:srgbClr val="333399"/>
                </a:solidFill>
                <a:latin typeface="宋体"/>
              </a:rPr>
              <a:t>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2644920" cy="3799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chenxiaonan.comcnom.c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0" y="30240"/>
            <a:ext cx="2592360" cy="80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cn.netor.comto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31120" y="3500280"/>
            <a:ext cx="2436840" cy="3357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www.gmdaily.com.cnm.c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170160" y="260280"/>
            <a:ext cx="2621160" cy="287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www.gmdaily.com.cnn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400800" y="304920"/>
            <a:ext cx="2509920" cy="280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440" y="3141000"/>
            <a:ext cx="13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冰心（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9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年于美国）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8000" y="32122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9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年，冰心于燕京大学毕业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2666880" y="37162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4160" y="649044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冰心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1929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年与吴文藻结婚时合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10_cKJCWjkHGWvu" descr=""/>
          <p:cNvPicPr/>
          <p:nvPr/>
        </p:nvPicPr>
        <p:blipFill>
          <a:blip r:embed="rId1"/>
          <a:srcRect l="7529" t="5906" r="6644" b="2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87280" y="162864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生命中不是永远快乐，也不是永远痛苦，快乐和痛苦是相生相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在快乐中我们要感谢生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在痛苦中我们也要感谢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16000" y="1208160"/>
            <a:ext cx="6048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现、当代女作家，儿童文学作家。原名谢婉莹，笔名冰心女士等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1919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年开始发表第一篇小说《两个家庭》。她受到泰戈尔《飞鸟集》的影响，写作无标题的自由体小诗。这些晶莹清丽、轻柔隽逸的小诗，后结集为《繁星》和《春水》出版，被人称为“春水体”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98360"/>
            <a:ext cx="33843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走近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u=3948020586,936190328&amp;gp=3" descr=""/>
          <p:cNvPicPr/>
          <p:nvPr/>
        </p:nvPicPr>
        <p:blipFill>
          <a:blip r:embed="rId1"/>
          <a:stretch/>
        </p:blipFill>
        <p:spPr>
          <a:xfrm>
            <a:off x="0" y="1628640"/>
            <a:ext cx="3132000" cy="5229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211640" y="-3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4a8"/>
                </a:solidFill>
                <a:latin typeface="Arial"/>
              </a:rPr>
              <a:t>冰心（</a:t>
            </a:r>
            <a:r>
              <a:rPr b="1" lang="zh-CN" sz="3200" spc="-1" strike="noStrike">
                <a:solidFill>
                  <a:srgbClr val="3304a8"/>
                </a:solidFill>
                <a:latin typeface="Arial"/>
              </a:rPr>
              <a:t>1900—1999</a:t>
            </a:r>
            <a:r>
              <a:rPr b="1" lang="zh-CN" sz="3200" spc="-1" strike="noStrike">
                <a:solidFill>
                  <a:srgbClr val="3304a8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312920"/>
            <a:ext cx="6589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写的散文集《寄小读者》，显示出婉约典雅、轻灵隽丽、凝炼流畅的特点，具有高度的艺术表现力，比小说和诗歌取得更高的成就。这种独特的风格曾被时人称为“冰心体”，产生了广泛的影响。主要著作有散文集《寄小读者》，诗集《春水》、《繁星》，儿童文学集《小桔灯》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88000" y="115920"/>
            <a:ext cx="2556000" cy="587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198360"/>
            <a:ext cx="3384360" cy="11430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走近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l06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 rot="5400000">
            <a:off x="-299160" y="2036160"/>
            <a:ext cx="4038480" cy="20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谈生命</a:t>
            </a:r>
            <a:endParaRPr b="0" lang="en-US" sz="6000" spc="1" strike="noStrike">
              <a:ln w="1908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3429000"/>
            <a:ext cx="108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冰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51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掌握下列生字词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）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岩（        ）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） 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 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（     ）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庇（      ）  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卷（      ）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（        ） 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419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43700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200" y="24382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8000" y="2492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2421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66800" y="317196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ǎ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61080" y="3141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6120" y="3141720"/>
            <a:ext cx="10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16920" y="380844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8160" y="37893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y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72680" y="37321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x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443700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à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549360"/>
            <a:ext cx="82072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巉岩：高而险的山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枭鸟：猫头鹰之类的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憩息：休息。      骄奢：骄狂专横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芳馨：芳香。      怡悦：喜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兴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绯红：鲜红。      云翳：阴暗的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荫庇：大树枝叶遮蔽阳光，也用来比喻保护、照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泻千里：形容江河水流迅速。也形容文笔奔放、流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平气和：指思想或精神平静没有不安或压抑的感情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979640" y="2421000"/>
            <a:ext cx="5472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理清行文思路，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99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华文行楷"/>
              </a:rPr>
              <a:t>把握文意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100000">
                    <a:srgbClr val="ffff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7848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课文段落层次的划分 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836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第一层：第一句话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领起下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5573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层：从“生命像向东流的一江春水”到“也不敢信来生”。描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命像春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东流的状况。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429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层：从“生命又像一棵小树”到“也不敢信来生”。描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生命像一棵小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成长和衰亡的状况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22936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层：最后结尾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总结上文，抒发感想，阐发哲理。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2:31:29Z</dcterms:created>
  <dc:creator>FiSh</dc:creator>
  <dc:description/>
  <dc:language>en-US</dc:language>
  <cp:lastModifiedBy>User</cp:lastModifiedBy>
  <dcterms:modified xsi:type="dcterms:W3CDTF">2008-08-11T22:07:31Z</dcterms:modified>
  <cp:revision>19</cp:revision>
  <dc:subject/>
  <dc:title>幻灯片 1</dc:title>
</cp:coreProperties>
</file>